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media/image4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0E95-E248-499C-B210-6209EAF59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5120" y="413064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9FCE-BF90-4308-9902-8A40DA89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1944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77DC-20D7-47D2-8EB3-9C0FF63C0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2388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4228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512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2388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4228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EC50-8880-4945-B3CB-7CDE557FB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E285-2FE2-4541-8D61-B58C6CC0F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F3AEB-12D3-467B-BB4C-4C6B46E4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D7DE-D4FD-4A87-802E-B5AFC399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FBB8-2721-4E27-9FE9-7E06FE3D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75C7-DF67-4191-9F12-D422AC3D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B4AC-6A69-4AFE-9893-550DD001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6875-1E8C-434C-BE46-7A0DC374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4085-79C4-4B53-93F5-B3EFCEF4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41944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4098-55AB-4F97-84F7-2DB8E0C1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8DAD-4B24-4D35-8E52-5400B811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905120" y="413064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B939-EB57-4A59-AF21-DD2EA94A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41944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8B67-9F6F-4512-87D1-86A03EA22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2388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42280" y="198108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90512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22388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42280" y="413064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70B0-E206-4405-87EF-A446139C7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12BB-7069-4A12-B564-C66FD241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6915-A7DA-4680-B5C0-0C5172DC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90E2-773A-4F29-A7F5-B6599E5D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2A83-8997-4F09-986F-52D14FDA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5303-2AD5-474A-B6CF-BC5EF216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19440" y="413064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4AB0-33AF-4733-9439-CEC46662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19440" y="198108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3F17-E3EA-4D71-B571-62B1A63A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2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41A8-CA4D-4C75-B653-B4B09EC41B42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2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2DDC-8B94-467B-8FE3-262681A0C928}" type="slidenum"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What causes a tornado?????</a:t>
            </a: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2400"/>
            </a:b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52480" y="1752480"/>
            <a:ext cx="336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d ai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ion clockwis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nel clou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cell formed by mixing warm moist air with cold weather wind          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638680" y="1828800"/>
            <a:ext cx="3657600" cy="3349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724280" y="6172200"/>
            <a:ext cx="425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naturescrusaders.files.wordpress.com/2008/11/wxwhytornadoformation385x289x9612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6627600" y="1600200"/>
            <a:ext cx="33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googl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1240" y="6438960"/>
            <a:ext cx="228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www.fema.gov/kids/dizarea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 powerful tornado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438280" y="1981080"/>
            <a:ext cx="6324840" cy="4515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514600" y="6629400"/>
            <a:ext cx="49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eonlite.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heel spokes="8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5:14:32Z</dcterms:created>
  <dc:creator>D83  User</dc:creator>
  <dc:description/>
  <dc:language>en-US</dc:language>
  <cp:lastModifiedBy>D83  User</cp:lastModifiedBy>
  <dcterms:modified xsi:type="dcterms:W3CDTF">2010-10-27T15:02:43Z</dcterms:modified>
  <cp:revision>22</cp:revision>
  <dc:subject/>
  <dc:title>PowerPoint Presentation</dc:title>
</cp:coreProperties>
</file>